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D45F-3665-4E7B-8764-58193DB521C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2D44-6A94-409D-87F0-C07C0C056E0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4831-DC36-4862-A29C-B39E98FF8D2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6721-9D0E-4CF2-9EE0-327F41BECD3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D77C-8FE1-47E4-ABC1-A50788A6BE1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5BE7-F164-4342-9CA6-7BFA39DC45A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382-FF6A-417F-B153-FE82E91FBD8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BDE6-FAF4-4D4A-9501-E45BA7CE64E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CF4-2ABB-4887-9A7D-A8D1A18A095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8CF-8C51-4893-8673-7B2F59499E4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0855-B6A7-44C7-B5E7-AD8C0022902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BA4B-4FD0-40DE-94DD-65147F46F92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97C3-DBFB-4FC2-8C39-0C77612FC51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3739-643C-4C95-89F3-63B120B70B0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14AC-220B-4918-B5DF-122F72BB4BB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E2ED-4BAE-4633-8FC7-47FEF0F9BBF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9BF9-9D37-4BD6-9EC8-71483BE1188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C90B-F60C-45B2-B927-83FA33DCFF6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6FD-C0FE-4D48-9A45-888A6FB19AC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2CF-935D-425A-AE88-F069F7BDDB0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76B7-F283-426A-A2F0-B51FD4DE9CB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E32B-DDFC-49DA-AA49-CBB678605A2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735-A7C8-4359-9EC7-753F4865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74B-A9B5-4209-893D-98E14FD8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A3A-ED2B-4F40-A0FE-69EF0ADE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9AC-196C-4E57-BE6C-15ACD4D7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1F1-2732-458C-B9B1-7F60AF5B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4845-26DF-41A6-ACBE-254113BB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297-4366-4EF3-866F-C165D2A9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8F9-0872-4122-BD72-14DD7C2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28D0-7A57-4FDA-B135-FD23B19F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678-1BAC-4698-BC9A-2B8203C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1DC7-3EA8-4D88-A287-81F592E5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0511-02BD-48D8-BD56-7B0EA2B6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9B24-BA96-488B-95E5-2B554DB80E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7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1801800" y="12747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三极管的工作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0" r="0" b="10788"/>
          <a:stretch/>
        </p:blipFill>
        <p:spPr>
          <a:xfrm>
            <a:off x="7196040" y="4119480"/>
            <a:ext cx="3079800" cy="2598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938240" y="1595520"/>
            <a:ext cx="45133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⑴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大区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成正比关系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⑵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截止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反偏，集电结反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6673680" y="1461960"/>
            <a:ext cx="46771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⑶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饱和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正偏，集电结正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成比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少增大或不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达到饱和，失去放大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⑷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不是三极管的工作区域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905" t="6469" r="67448" b="25143"/>
          <a:stretch/>
        </p:blipFill>
        <p:spPr>
          <a:xfrm>
            <a:off x="5502240" y="4363920"/>
            <a:ext cx="1693800" cy="2060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rcRect l="0" t="53052" r="3951" b="0"/>
          <a:stretch/>
        </p:blipFill>
        <p:spPr>
          <a:xfrm>
            <a:off x="1981080" y="4519440"/>
            <a:ext cx="334800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9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5" name="矩形 1"/>
          <p:cNvSpPr/>
          <p:nvPr/>
        </p:nvSpPr>
        <p:spPr>
          <a:xfrm>
            <a:off x="2840040" y="1460520"/>
            <a:ext cx="34797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硅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6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7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锗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3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左大括号 2"/>
          <p:cNvSpPr/>
          <p:nvPr/>
        </p:nvSpPr>
        <p:spPr>
          <a:xfrm>
            <a:off x="3062160" y="167148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642960" y="1967040"/>
            <a:ext cx="2251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发射结电压，确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极、确定种类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左大括号 9"/>
          <p:cNvSpPr/>
          <p:nvPr/>
        </p:nvSpPr>
        <p:spPr>
          <a:xfrm>
            <a:off x="8415360" y="1536840"/>
            <a:ext cx="200160" cy="1454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4040"/>
              <a:gd name="textAreaBottom" fmla="*/ 144900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右箭头 15"/>
          <p:cNvSpPr/>
          <p:nvPr/>
        </p:nvSpPr>
        <p:spPr>
          <a:xfrm>
            <a:off x="5010120" y="2271600"/>
            <a:ext cx="722520" cy="1494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8926200" y="155736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6383160" y="2009880"/>
            <a:ext cx="184788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集电结反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确定类型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8914320" y="252900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右箭头 20"/>
          <p:cNvSpPr/>
          <p:nvPr/>
        </p:nvSpPr>
        <p:spPr>
          <a:xfrm>
            <a:off x="10444320" y="160488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右箭头 21"/>
          <p:cNvSpPr/>
          <p:nvPr/>
        </p:nvSpPr>
        <p:spPr>
          <a:xfrm>
            <a:off x="10460160" y="263052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11169720" y="1492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11199240" y="2532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2928960" y="4087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矩形 19"/>
          <p:cNvSpPr/>
          <p:nvPr/>
        </p:nvSpPr>
        <p:spPr>
          <a:xfrm>
            <a:off x="2917080" y="5249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左大括号 20"/>
          <p:cNvSpPr/>
          <p:nvPr/>
        </p:nvSpPr>
        <p:spPr>
          <a:xfrm>
            <a:off x="2682720" y="411624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右箭头 29"/>
          <p:cNvSpPr/>
          <p:nvPr/>
        </p:nvSpPr>
        <p:spPr>
          <a:xfrm>
            <a:off x="3678120" y="4202280"/>
            <a:ext cx="723960" cy="150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右箭头 30"/>
          <p:cNvSpPr/>
          <p:nvPr/>
        </p:nvSpPr>
        <p:spPr>
          <a:xfrm>
            <a:off x="3708360" y="5364000"/>
            <a:ext cx="723960" cy="150840"/>
          </a:xfrm>
          <a:prstGeom prst="rightArrow">
            <a:avLst>
              <a:gd name="adj1" fmla="val 50000"/>
              <a:gd name="adj2" fmla="val 498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矩形 23"/>
          <p:cNvSpPr/>
          <p:nvPr/>
        </p:nvSpPr>
        <p:spPr>
          <a:xfrm>
            <a:off x="4521600" y="409572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矩形 24"/>
          <p:cNvSpPr/>
          <p:nvPr/>
        </p:nvSpPr>
        <p:spPr>
          <a:xfrm>
            <a:off x="4574520" y="523080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627120" y="4510080"/>
            <a:ext cx="1846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压大小顺序（确定电极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MH_Number_1">
            <a:hlinkClick r:id="rId1" action="ppaction://hlinksldjump"/>
          </p:cNvPr>
          <p:cNvSpPr/>
          <p:nvPr/>
        </p:nvSpPr>
        <p:spPr>
          <a:xfrm flipH="1">
            <a:off x="-12600" y="4508640"/>
            <a:ext cx="6681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MH_Number_1">
            <a:hlinkClick r:id="rId2" action="ppaction://hlinksldjump"/>
          </p:cNvPr>
          <p:cNvSpPr/>
          <p:nvPr/>
        </p:nvSpPr>
        <p:spPr>
          <a:xfrm flipH="1">
            <a:off x="-12600" y="1973160"/>
            <a:ext cx="668160" cy="65592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MH_Number_1">
            <a:hlinkClick r:id="rId3" action="ppaction://hlinksldjump"/>
          </p:cNvPr>
          <p:cNvSpPr/>
          <p:nvPr/>
        </p:nvSpPr>
        <p:spPr>
          <a:xfrm flipH="1">
            <a:off x="5747760" y="2014560"/>
            <a:ext cx="6699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4"/>
          <a:srcRect l="0" t="6469" r="0" b="13261"/>
          <a:stretch/>
        </p:blipFill>
        <p:spPr>
          <a:xfrm>
            <a:off x="7139160" y="3835440"/>
            <a:ext cx="5040000" cy="2135160"/>
          </a:xfrm>
          <a:prstGeom prst="rect">
            <a:avLst/>
          </a:prstGeom>
          <a:ln w="0">
            <a:noFill/>
          </a:ln>
        </p:spPr>
      </p:pic>
      <p:sp>
        <p:nvSpPr>
          <p:cNvPr id="219" name="右箭头 40"/>
          <p:cNvSpPr/>
          <p:nvPr/>
        </p:nvSpPr>
        <p:spPr>
          <a:xfrm>
            <a:off x="11455560" y="2109960"/>
            <a:ext cx="723600" cy="1504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矩形 31"/>
          <p:cNvSpPr/>
          <p:nvPr/>
        </p:nvSpPr>
        <p:spPr>
          <a:xfrm>
            <a:off x="865800" y="2881440"/>
            <a:ext cx="10508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1" name="直接箭头连接符 32"/>
          <p:cNvCxnSpPr/>
          <p:nvPr/>
        </p:nvCxnSpPr>
        <p:spPr>
          <a:xfrm>
            <a:off x="1979280" y="349992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矩形 33"/>
          <p:cNvSpPr/>
          <p:nvPr/>
        </p:nvSpPr>
        <p:spPr>
          <a:xfrm>
            <a:off x="2978280" y="3116160"/>
            <a:ext cx="1896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5.2=0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5.2-1.4=3.8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1.4=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左大括号 34"/>
          <p:cNvSpPr/>
          <p:nvPr/>
        </p:nvSpPr>
        <p:spPr>
          <a:xfrm>
            <a:off x="2908440" y="3159000"/>
            <a:ext cx="136440" cy="790560"/>
          </a:xfrm>
          <a:custGeom>
            <a:avLst/>
            <a:gdLst>
              <a:gd name="textAreaLeft" fmla="*/ 87120 w 136440"/>
              <a:gd name="textAreaRight" fmla="*/ 136800 w 136440"/>
              <a:gd name="textAreaTop" fmla="*/ 3240 h 790560"/>
              <a:gd name="textAreaBottom" fmla="*/ 78732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4" name="直接箭头连接符 35"/>
          <p:cNvCxnSpPr/>
          <p:nvPr/>
        </p:nvCxnSpPr>
        <p:spPr>
          <a:xfrm>
            <a:off x="4889520" y="328248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矩形 36"/>
          <p:cNvSpPr/>
          <p:nvPr/>
        </p:nvSpPr>
        <p:spPr>
          <a:xfrm>
            <a:off x="5883120" y="3117960"/>
            <a:ext cx="12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锗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/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/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是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6" name="直接箭头连接符 37"/>
          <p:cNvCxnSpPr/>
          <p:nvPr/>
        </p:nvCxnSpPr>
        <p:spPr>
          <a:xfrm>
            <a:off x="7319520" y="34491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矩形 38"/>
          <p:cNvSpPr/>
          <p:nvPr/>
        </p:nvSpPr>
        <p:spPr>
          <a:xfrm>
            <a:off x="8276040" y="3139920"/>
            <a:ext cx="20246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8" name="直接箭头连接符 39"/>
          <p:cNvCxnSpPr/>
          <p:nvPr/>
        </p:nvCxnSpPr>
        <p:spPr>
          <a:xfrm>
            <a:off x="10312560" y="339696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矩形 40"/>
          <p:cNvSpPr/>
          <p:nvPr/>
        </p:nvSpPr>
        <p:spPr>
          <a:xfrm>
            <a:off x="11255400" y="3227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41"/>
          <p:cNvSpPr/>
          <p:nvPr/>
        </p:nvSpPr>
        <p:spPr>
          <a:xfrm>
            <a:off x="1814400" y="5694480"/>
            <a:ext cx="1487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1" name="直接箭头连接符 42"/>
          <p:cNvCxnSpPr/>
          <p:nvPr/>
        </p:nvCxnSpPr>
        <p:spPr>
          <a:xfrm>
            <a:off x="855360" y="59655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3260880" y="594000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矩形 44"/>
          <p:cNvSpPr/>
          <p:nvPr/>
        </p:nvSpPr>
        <p:spPr>
          <a:xfrm>
            <a:off x="4516560" y="5710320"/>
            <a:ext cx="240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左大括号 45"/>
          <p:cNvSpPr/>
          <p:nvPr/>
        </p:nvSpPr>
        <p:spPr>
          <a:xfrm>
            <a:off x="5735520" y="3160800"/>
            <a:ext cx="136800" cy="792000"/>
          </a:xfrm>
          <a:custGeom>
            <a:avLst/>
            <a:gdLst>
              <a:gd name="textAreaLeft" fmla="*/ 87480 w 136800"/>
              <a:gd name="textAreaRight" fmla="*/ 137160 w 136800"/>
              <a:gd name="textAreaTop" fmla="*/ 3240 h 792000"/>
              <a:gd name="textAreaBottom" fmla="*/ 788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68400" y="2238480"/>
            <a:ext cx="58132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放大区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4" descr="微信图片_20200228110525.jpg"/>
          <p:cNvPicPr/>
          <p:nvPr/>
        </p:nvPicPr>
        <p:blipFill>
          <a:blip r:embed="rId1"/>
          <a:srcRect l="20896" t="0" r="30945" b="0"/>
          <a:stretch/>
        </p:blipFill>
        <p:spPr>
          <a:xfrm>
            <a:off x="6121440" y="930240"/>
            <a:ext cx="5695920" cy="545796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合 5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4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79360" y="1716120"/>
            <a:ext cx="112935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管的电流放大倍数又称三极管的电流分配系数，字母为希腊字母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在三极管的三个电流中，有一个电流发生变化，另外两个电流也会随着按比例地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基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、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发射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开路时候，晶体管相当于二极管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电结的反向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基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也称为穿透电流，两者之间关系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1083240" y="12430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电流放大系数（</a:t>
            </a:r>
            <a:r>
              <a:rPr b="1" i="1" lang="en-US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β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4530600" y="2522520"/>
          <a:ext cx="327528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2522520"/>
                    <a:ext cx="327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3"/>
          <a:srcRect l="0" t="0" r="1155" b="51725"/>
          <a:stretch/>
        </p:blipFill>
        <p:spPr>
          <a:xfrm>
            <a:off x="793800" y="4354560"/>
            <a:ext cx="3567240" cy="23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4"/>
          <a:srcRect l="0" t="53052" r="3951" b="0"/>
          <a:stretch/>
        </p:blipFill>
        <p:spPr>
          <a:xfrm>
            <a:off x="4344840" y="4352760"/>
            <a:ext cx="356256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4"/>
          <p:cNvGraphicFramePr/>
          <p:nvPr/>
        </p:nvGraphicFramePr>
        <p:xfrm>
          <a:off x="8586720" y="2462040"/>
          <a:ext cx="28958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86720" y="2462040"/>
                    <a:ext cx="28958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8"/>
          <p:cNvSpPr/>
          <p:nvPr/>
        </p:nvSpPr>
        <p:spPr>
          <a:xfrm>
            <a:off x="1644480" y="6300720"/>
            <a:ext cx="168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受温度影响较大！！！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7"/>
          <a:srcRect l="2905" t="6469" r="67448" b="25143"/>
          <a:stretch/>
        </p:blipFill>
        <p:spPr>
          <a:xfrm>
            <a:off x="8871120" y="4148280"/>
            <a:ext cx="2027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5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1" name="TextBox 21"/>
          <p:cNvSpPr/>
          <p:nvPr/>
        </p:nvSpPr>
        <p:spPr>
          <a:xfrm>
            <a:off x="777960" y="1236600"/>
            <a:ext cx="114141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电流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三极管相等或较大的三极管进行置换。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过一定值时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值下降到正常值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/3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的集电极电流，称为集电极最大允许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出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不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会损坏二极管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，只是限制了集电极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Ｐ</a:t>
            </a:r>
            <a:r>
              <a:rPr b="1" lang="zh-CN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ｃｍ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电极电流流过集电结时，功率损耗，温度升高，破坏晶体管的功率称为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管相等或较大的三极管进行置换，但经过计算或测试，如果原三极管在整机电路中实际直流耗散功率远小于其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则可以用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小的三极管置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572240" y="2128680"/>
            <a:ext cx="307836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6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6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8" name="TextBox 21"/>
          <p:cNvSpPr/>
          <p:nvPr/>
        </p:nvSpPr>
        <p:spPr>
          <a:xfrm>
            <a:off x="777960" y="1373040"/>
            <a:ext cx="114141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极反向击穿电压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极开路时，加在集电极和发射极之间的最大允许电压，超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，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将大幅上升，晶体管被击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饱和压降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晶体管处于饱和状态时候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间的压降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降越小越好，越小功率越小，不易发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7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特征频率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T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极管频率特性参数。常用的有以下两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指在测试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率足够高时，使三极管共发射极电流放大系数时的频率；②截止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置换三极管时，主要考虑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常要求用于置换的三极管，其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小于原三极管对应的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958160" y="2019240"/>
            <a:ext cx="3333600" cy="239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rcRect l="0" t="0" r="0" b="10788"/>
          <a:stretch/>
        </p:blipFill>
        <p:spPr>
          <a:xfrm>
            <a:off x="8602560" y="4259160"/>
            <a:ext cx="307980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7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76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83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0" y="1852560"/>
            <a:ext cx="7902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集电极电阻，提供集电极电流通路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将晶体管放大的集电极电流信号转换为电压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入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入信号中的交流成分，隔断信号源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出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出信号中的交流成分，隔断输出信号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直流电源，提供晶体管静态偏置，即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时作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电流放大的能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三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0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3"/>
          <p:cNvGrpSpPr/>
          <p:nvPr/>
        </p:nvGrpSpPr>
        <p:grpSpPr>
          <a:xfrm>
            <a:off x="298440" y="1363680"/>
            <a:ext cx="11715840" cy="2560680"/>
            <a:chOff x="298440" y="1363680"/>
            <a:chExt cx="11715840" cy="2560680"/>
          </a:xfrm>
        </p:grpSpPr>
        <p:sp>
          <p:nvSpPr>
            <p:cNvPr id="293" name="圆角矩形 1"/>
            <p:cNvSpPr/>
            <p:nvPr/>
          </p:nvSpPr>
          <p:spPr>
            <a:xfrm>
              <a:off x="298440" y="1363680"/>
              <a:ext cx="11715840" cy="2560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文本框 14"/>
            <p:cNvSpPr/>
            <p:nvPr/>
          </p:nvSpPr>
          <p:spPr>
            <a:xfrm>
              <a:off x="545760" y="140652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文本框 15"/>
            <p:cNvSpPr/>
            <p:nvPr/>
          </p:nvSpPr>
          <p:spPr>
            <a:xfrm>
              <a:off x="531720" y="1794240"/>
              <a:ext cx="11321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放大电路在未加输入信号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时的工作状态称为静态，如下图所示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两输入端相当于短路。这时，电路在直流电源电压 作用下，三极管的各极电流 ， 和 以及各极之间的电压 、 等都是直流量，称之为静态值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9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300" name="图片 24" descr="9"/>
          <p:cNvPicPr/>
          <p:nvPr/>
        </p:nvPicPr>
        <p:blipFill>
          <a:blip r:embed="rId1">
            <a:lum contrast="30000"/>
          </a:blip>
          <a:srcRect l="0" t="0" r="0" b="4296"/>
          <a:stretch/>
        </p:blipFill>
        <p:spPr>
          <a:xfrm>
            <a:off x="2606760" y="3924360"/>
            <a:ext cx="695016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0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5" name="组合 9"/>
          <p:cNvGrpSpPr/>
          <p:nvPr/>
        </p:nvGrpSpPr>
        <p:grpSpPr>
          <a:xfrm>
            <a:off x="222120" y="2303640"/>
            <a:ext cx="11715840" cy="2560320"/>
            <a:chOff x="222120" y="2303640"/>
            <a:chExt cx="11715840" cy="2560320"/>
          </a:xfrm>
        </p:grpSpPr>
        <p:sp>
          <p:nvSpPr>
            <p:cNvPr id="306" name="圆角矩形 1"/>
            <p:cNvSpPr/>
            <p:nvPr/>
          </p:nvSpPr>
          <p:spPr>
            <a:xfrm>
              <a:off x="222120" y="2303640"/>
              <a:ext cx="11715840" cy="256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456840" y="237204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文本框 15"/>
            <p:cNvSpPr/>
            <p:nvPr/>
          </p:nvSpPr>
          <p:spPr>
            <a:xfrm>
              <a:off x="455400" y="273420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静态值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B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B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及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C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C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大小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或数值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三极管的输入特性曲线及输出特性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曲线上的某点坐标相对应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故称为静态工作点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并以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1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EQ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EQ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表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1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3" name="Text Box 2"/>
          <p:cNvSpPr/>
          <p:nvPr/>
        </p:nvSpPr>
        <p:spPr>
          <a:xfrm>
            <a:off x="1225440" y="3321000"/>
            <a:ext cx="50990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基极电流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电极电流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射电压：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4" name="Picture 3" descr="5"/>
          <p:cNvPicPr/>
          <p:nvPr/>
        </p:nvPicPr>
        <p:blipFill>
          <a:blip r:embed="rId1"/>
          <a:stretch/>
        </p:blipFill>
        <p:spPr>
          <a:xfrm>
            <a:off x="3359160" y="3303720"/>
            <a:ext cx="2278080" cy="68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3"/>
          <p:cNvPicPr/>
          <p:nvPr/>
        </p:nvPicPr>
        <p:blipFill>
          <a:blip r:embed="rId2"/>
          <a:srcRect l="37403" t="0" r="42582" b="27902"/>
          <a:stretch/>
        </p:blipFill>
        <p:spPr>
          <a:xfrm>
            <a:off x="8116920" y="1276200"/>
            <a:ext cx="3338640" cy="4426200"/>
          </a:xfrm>
          <a:prstGeom prst="rect">
            <a:avLst/>
          </a:prstGeom>
          <a:ln w="0">
            <a:noFill/>
          </a:ln>
        </p:spPr>
      </p:pic>
      <p:sp>
        <p:nvSpPr>
          <p:cNvPr id="316" name="矩形 8"/>
          <p:cNvSpPr/>
          <p:nvPr/>
        </p:nvSpPr>
        <p:spPr>
          <a:xfrm>
            <a:off x="927000" y="1420920"/>
            <a:ext cx="7137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也称静态分析，根据直流通路分析直流的电流与直流的电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静态分析主要分析以下三项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静态基极电流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B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电极电流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射极电压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E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055520" y="5492880"/>
            <a:ext cx="9460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对硅晶体管而言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.6~0.7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另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小，均可忽略不计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文本框 13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5" descr=""/>
          <p:cNvPicPr/>
          <p:nvPr/>
        </p:nvPicPr>
        <p:blipFill>
          <a:blip r:embed="rId1"/>
          <a:stretch/>
        </p:blipFill>
        <p:spPr>
          <a:xfrm>
            <a:off x="0" y="1563840"/>
            <a:ext cx="12192120" cy="52941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3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3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24" name="文本框 40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1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动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0" name="Group 3"/>
          <p:cNvGrpSpPr/>
          <p:nvPr/>
        </p:nvGrpSpPr>
        <p:grpSpPr>
          <a:xfrm>
            <a:off x="799920" y="1492920"/>
            <a:ext cx="8685360" cy="4687200"/>
            <a:chOff x="799920" y="1492920"/>
            <a:chExt cx="8685360" cy="4687200"/>
          </a:xfrm>
        </p:grpSpPr>
        <p:sp>
          <p:nvSpPr>
            <p:cNvPr id="331" name="Freeform 4"/>
            <p:cNvSpPr/>
            <p:nvPr/>
          </p:nvSpPr>
          <p:spPr>
            <a:xfrm>
              <a:off x="2651040" y="4091040"/>
              <a:ext cx="2044800" cy="13968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387" h="131">
                  <a:moveTo>
                    <a:pt x="19" y="131"/>
                  </a:moveTo>
                  <a:cubicBezTo>
                    <a:pt x="27" y="125"/>
                    <a:pt x="0" y="113"/>
                    <a:pt x="69" y="95"/>
                  </a:cubicBezTo>
                  <a:cubicBezTo>
                    <a:pt x="138" y="77"/>
                    <a:pt x="45" y="40"/>
                    <a:pt x="431" y="24"/>
                  </a:cubicBezTo>
                  <a:cubicBezTo>
                    <a:pt x="817" y="8"/>
                    <a:pt x="1980" y="5"/>
                    <a:pt x="238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2667240" y="3691080"/>
              <a:ext cx="1977840" cy="54144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308" h="504">
                  <a:moveTo>
                    <a:pt x="0" y="504"/>
                  </a:moveTo>
                  <a:cubicBezTo>
                    <a:pt x="3" y="472"/>
                    <a:pt x="6" y="352"/>
                    <a:pt x="15" y="314"/>
                  </a:cubicBezTo>
                  <a:cubicBezTo>
                    <a:pt x="24" y="276"/>
                    <a:pt x="26" y="302"/>
                    <a:pt x="52" y="276"/>
                  </a:cubicBezTo>
                  <a:cubicBezTo>
                    <a:pt x="78" y="250"/>
                    <a:pt x="124" y="190"/>
                    <a:pt x="172" y="156"/>
                  </a:cubicBezTo>
                  <a:cubicBezTo>
                    <a:pt x="220" y="122"/>
                    <a:pt x="244" y="90"/>
                    <a:pt x="340" y="72"/>
                  </a:cubicBezTo>
                  <a:cubicBezTo>
                    <a:pt x="436" y="54"/>
                    <a:pt x="420" y="60"/>
                    <a:pt x="748" y="48"/>
                  </a:cubicBezTo>
                  <a:cubicBezTo>
                    <a:pt x="1076" y="36"/>
                    <a:pt x="1983" y="10"/>
                    <a:pt x="230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2665440" y="3213360"/>
              <a:ext cx="1968480" cy="10191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2667240" y="2711520"/>
              <a:ext cx="1936440" cy="1482840"/>
            </a:xfrm>
            <a:custGeom>
              <a:avLst/>
              <a:gdLst>
                <a:gd name="textAreaLeft" fmla="*/ 0 w 1936440"/>
                <a:gd name="textAreaRight" fmla="*/ 1936800 w 19364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260" h="1380">
                  <a:moveTo>
                    <a:pt x="0" y="1380"/>
                  </a:moveTo>
                  <a:cubicBezTo>
                    <a:pt x="12" y="1237"/>
                    <a:pt x="48" y="729"/>
                    <a:pt x="73" y="525"/>
                  </a:cubicBezTo>
                  <a:cubicBezTo>
                    <a:pt x="99" y="321"/>
                    <a:pt x="86" y="236"/>
                    <a:pt x="155" y="157"/>
                  </a:cubicBezTo>
                  <a:cubicBezTo>
                    <a:pt x="223" y="77"/>
                    <a:pt x="132" y="76"/>
                    <a:pt x="483" y="50"/>
                  </a:cubicBezTo>
                  <a:cubicBezTo>
                    <a:pt x="834" y="24"/>
                    <a:pt x="1890" y="10"/>
                    <a:pt x="22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2667240" y="2271960"/>
              <a:ext cx="1904760" cy="19224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922400"/>
                <a:gd name="textAreaBottom" fmla="*/ 1922760 h 1922400"/>
              </a:gdLst>
              <a:ahLst/>
              <a:rect l="textAreaLeft" t="textAreaTop" r="textAreaRight" b="textAreaBottom"/>
              <a:pathLst>
                <a:path w="2224" h="1788">
                  <a:moveTo>
                    <a:pt x="0" y="1788"/>
                  </a:moveTo>
                  <a:cubicBezTo>
                    <a:pt x="15" y="1616"/>
                    <a:pt x="70" y="1000"/>
                    <a:pt x="89" y="754"/>
                  </a:cubicBezTo>
                  <a:cubicBezTo>
                    <a:pt x="108" y="508"/>
                    <a:pt x="92" y="417"/>
                    <a:pt x="112" y="312"/>
                  </a:cubicBezTo>
                  <a:cubicBezTo>
                    <a:pt x="132" y="207"/>
                    <a:pt x="121" y="171"/>
                    <a:pt x="209" y="125"/>
                  </a:cubicBezTo>
                  <a:cubicBezTo>
                    <a:pt x="297" y="79"/>
                    <a:pt x="304" y="57"/>
                    <a:pt x="640" y="36"/>
                  </a:cubicBezTo>
                  <a:cubicBezTo>
                    <a:pt x="976" y="15"/>
                    <a:pt x="1894" y="8"/>
                    <a:pt x="222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184720" y="3770280"/>
              <a:ext cx="18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>
              <a:off x="1080720" y="3206880"/>
              <a:ext cx="3505320" cy="32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8" name="Line 11"/>
            <p:cNvSpPr/>
            <p:nvPr/>
          </p:nvSpPr>
          <p:spPr>
            <a:xfrm flipH="1">
              <a:off x="3687840" y="3133800"/>
              <a:ext cx="23760" cy="24354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653640" y="279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4380120" y="4590360"/>
              <a:ext cx="109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2681280" y="469116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2676600" y="4689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3" name="Text Box 16"/>
            <p:cNvSpPr/>
            <p:nvPr/>
          </p:nvSpPr>
          <p:spPr>
            <a:xfrm>
              <a:off x="236844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691080" y="469296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 flipV="1">
              <a:off x="4673520" y="3206520"/>
              <a:ext cx="3265560" cy="111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6593040" y="41205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 flipV="1">
              <a:off x="5602320" y="2378160"/>
              <a:ext cx="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600880" y="212400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 flipV="1">
              <a:off x="5602320" y="4237200"/>
              <a:ext cx="1243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5602320" y="3202200"/>
              <a:ext cx="103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6572160" y="3206880"/>
              <a:ext cx="417960" cy="1066680"/>
              <a:chOff x="6572160" y="3206880"/>
              <a:chExt cx="417960" cy="1066680"/>
            </a:xfrm>
          </p:grpSpPr>
          <p:sp>
            <p:nvSpPr>
              <p:cNvPr id="352" name="Rectangle 25"/>
              <p:cNvSpPr/>
              <p:nvPr/>
            </p:nvSpPr>
            <p:spPr>
              <a:xfrm>
                <a:off x="6573240" y="3439440"/>
                <a:ext cx="41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3" name="Line 26"/>
              <p:cNvSpPr/>
              <p:nvPr/>
            </p:nvSpPr>
            <p:spPr>
              <a:xfrm>
                <a:off x="657216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54" name="Line 27"/>
            <p:cNvSpPr/>
            <p:nvPr/>
          </p:nvSpPr>
          <p:spPr>
            <a:xfrm>
              <a:off x="1104840" y="320364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Rectangle 28"/>
            <p:cNvSpPr/>
            <p:nvPr/>
          </p:nvSpPr>
          <p:spPr>
            <a:xfrm>
              <a:off x="2071440" y="4196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1090800" y="2113920"/>
              <a:ext cx="105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>
              <a:off x="1121040" y="42735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1117800" y="2368440"/>
              <a:ext cx="0" cy="18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9" name="Group 32"/>
            <p:cNvGrpSpPr/>
            <p:nvPr/>
          </p:nvGrpSpPr>
          <p:grpSpPr>
            <a:xfrm>
              <a:off x="2148120" y="3206880"/>
              <a:ext cx="428760" cy="1066680"/>
              <a:chOff x="2148120" y="3206880"/>
              <a:chExt cx="428760" cy="1066680"/>
            </a:xfrm>
          </p:grpSpPr>
          <p:sp>
            <p:nvSpPr>
              <p:cNvPr id="360" name="Rectangle 33"/>
              <p:cNvSpPr/>
              <p:nvPr/>
            </p:nvSpPr>
            <p:spPr>
              <a:xfrm>
                <a:off x="2149200" y="3439080"/>
                <a:ext cx="427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1" name="Line 34"/>
              <p:cNvSpPr/>
              <p:nvPr/>
            </p:nvSpPr>
            <p:spPr>
              <a:xfrm>
                <a:off x="214812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62" name="Line 35"/>
            <p:cNvSpPr/>
            <p:nvPr/>
          </p:nvSpPr>
          <p:spPr>
            <a:xfrm>
              <a:off x="2627280" y="2292480"/>
              <a:ext cx="221004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01000" y="1758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7101000" y="15343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7075440" y="4251600"/>
              <a:ext cx="204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Text Box 39"/>
            <p:cNvSpPr/>
            <p:nvPr/>
          </p:nvSpPr>
          <p:spPr>
            <a:xfrm>
              <a:off x="8360280" y="4134600"/>
              <a:ext cx="88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7088400" y="2103480"/>
              <a:ext cx="1033200" cy="212904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129040"/>
                <a:gd name="textAreaBottom" fmla="*/ 2129400 h 2129040"/>
              </a:gdLst>
              <a:ahLst/>
              <a:rect l="textAreaLeft" t="textAreaTop" r="textAreaRight" b="textAreaBottom"/>
              <a:pathLst>
                <a:path w="651" h="1341">
                  <a:moveTo>
                    <a:pt x="0" y="1341"/>
                  </a:moveTo>
                  <a:cubicBezTo>
                    <a:pt x="74" y="1338"/>
                    <a:pt x="149" y="1336"/>
                    <a:pt x="207" y="1311"/>
                  </a:cubicBezTo>
                  <a:cubicBezTo>
                    <a:pt x="265" y="1286"/>
                    <a:pt x="296" y="1283"/>
                    <a:pt x="348" y="1193"/>
                  </a:cubicBezTo>
                  <a:cubicBezTo>
                    <a:pt x="400" y="1103"/>
                    <a:pt x="468" y="969"/>
                    <a:pt x="518" y="770"/>
                  </a:cubicBezTo>
                  <a:cubicBezTo>
                    <a:pt x="568" y="571"/>
                    <a:pt x="629" y="128"/>
                    <a:pt x="651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>
              <a:off x="7899480" y="320688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9" name="Line 42"/>
            <p:cNvSpPr/>
            <p:nvPr/>
          </p:nvSpPr>
          <p:spPr>
            <a:xfrm>
              <a:off x="7900920" y="4656240"/>
              <a:ext cx="0" cy="1127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Line 43"/>
            <p:cNvSpPr/>
            <p:nvPr/>
          </p:nvSpPr>
          <p:spPr>
            <a:xfrm>
              <a:off x="7091280" y="46548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7101000" y="4680000"/>
              <a:ext cx="196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Text Box 45"/>
            <p:cNvSpPr/>
            <p:nvPr/>
          </p:nvSpPr>
          <p:spPr>
            <a:xfrm>
              <a:off x="680220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8113680" y="459036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7169760" y="516168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>
              <a:off x="7670880" y="5637240"/>
              <a:ext cx="211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76" name="Group 49"/>
            <p:cNvGrpSpPr/>
            <p:nvPr/>
          </p:nvGrpSpPr>
          <p:grpSpPr>
            <a:xfrm>
              <a:off x="2822040" y="5161680"/>
              <a:ext cx="1273680" cy="510120"/>
              <a:chOff x="2822040" y="5161680"/>
              <a:chExt cx="1273680" cy="510120"/>
            </a:xfrm>
          </p:grpSpPr>
          <p:sp>
            <p:nvSpPr>
              <p:cNvPr id="377" name="Line 50"/>
              <p:cNvSpPr/>
              <p:nvPr/>
            </p:nvSpPr>
            <p:spPr>
              <a:xfrm>
                <a:off x="3105000" y="5645160"/>
                <a:ext cx="990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Rectangle 51"/>
              <p:cNvSpPr/>
              <p:nvPr/>
            </p:nvSpPr>
            <p:spPr>
              <a:xfrm>
                <a:off x="2822040" y="5161680"/>
                <a:ext cx="645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52"/>
            <p:cNvSpPr/>
            <p:nvPr/>
          </p:nvSpPr>
          <p:spPr>
            <a:xfrm>
              <a:off x="2681280" y="1492920"/>
              <a:ext cx="123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V="1">
              <a:off x="2643120" y="1641600"/>
              <a:ext cx="0" cy="266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4550400" y="4171320"/>
              <a:ext cx="90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55"/>
            <p:cNvSpPr/>
            <p:nvPr/>
          </p:nvSpPr>
          <p:spPr>
            <a:xfrm>
              <a:off x="2605320" y="4270680"/>
              <a:ext cx="2743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681280" y="3206880"/>
              <a:ext cx="2057400" cy="106668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Oval 57"/>
            <p:cNvSpPr/>
            <p:nvPr/>
          </p:nvSpPr>
          <p:spPr>
            <a:xfrm>
              <a:off x="3665520" y="3162600"/>
              <a:ext cx="11448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Oval 58"/>
            <p:cNvSpPr/>
            <p:nvPr/>
          </p:nvSpPr>
          <p:spPr>
            <a:xfrm>
              <a:off x="7847280" y="3164040"/>
              <a:ext cx="12996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Text Box 59"/>
            <p:cNvSpPr/>
            <p:nvPr/>
          </p:nvSpPr>
          <p:spPr>
            <a:xfrm>
              <a:off x="2338200" y="41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679752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Text Box 61"/>
            <p:cNvSpPr/>
            <p:nvPr/>
          </p:nvSpPr>
          <p:spPr>
            <a:xfrm>
              <a:off x="530856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Text Box 62"/>
            <p:cNvSpPr/>
            <p:nvPr/>
          </p:nvSpPr>
          <p:spPr>
            <a:xfrm>
              <a:off x="6797520" y="441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Text Box 63"/>
            <p:cNvSpPr/>
            <p:nvPr/>
          </p:nvSpPr>
          <p:spPr>
            <a:xfrm>
              <a:off x="2378160" y="448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Text Box 64"/>
            <p:cNvSpPr/>
            <p:nvPr/>
          </p:nvSpPr>
          <p:spPr>
            <a:xfrm>
              <a:off x="799920" y="410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7939800" y="290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1033560" y="2727360"/>
            <a:ext cx="3470040" cy="985680"/>
            <a:chOff x="1033560" y="2727360"/>
            <a:chExt cx="3470040" cy="985680"/>
          </a:xfrm>
        </p:grpSpPr>
        <p:sp>
          <p:nvSpPr>
            <p:cNvPr id="394" name="Line 67"/>
            <p:cNvSpPr/>
            <p:nvPr/>
          </p:nvSpPr>
          <p:spPr>
            <a:xfrm>
              <a:off x="1033560" y="2727360"/>
              <a:ext cx="34700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1039680" y="3713040"/>
              <a:ext cx="33879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6" name="Group 69"/>
          <p:cNvGrpSpPr/>
          <p:nvPr/>
        </p:nvGrpSpPr>
        <p:grpSpPr>
          <a:xfrm>
            <a:off x="3084480" y="2716200"/>
            <a:ext cx="1028880" cy="3249720"/>
            <a:chOff x="3084480" y="2716200"/>
            <a:chExt cx="1028880" cy="3249720"/>
          </a:xfrm>
        </p:grpSpPr>
        <p:sp>
          <p:nvSpPr>
            <p:cNvPr id="397" name="Line 70"/>
            <p:cNvSpPr/>
            <p:nvPr/>
          </p:nvSpPr>
          <p:spPr>
            <a:xfrm>
              <a:off x="3084480" y="2716200"/>
              <a:ext cx="0" cy="32497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71"/>
            <p:cNvSpPr/>
            <p:nvPr/>
          </p:nvSpPr>
          <p:spPr>
            <a:xfrm>
              <a:off x="4113360" y="3637080"/>
              <a:ext cx="0" cy="2328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9" name="Group 72"/>
          <p:cNvGrpSpPr/>
          <p:nvPr/>
        </p:nvGrpSpPr>
        <p:grpSpPr>
          <a:xfrm>
            <a:off x="7763040" y="2651040"/>
            <a:ext cx="301320" cy="2743200"/>
            <a:chOff x="7763040" y="2651040"/>
            <a:chExt cx="301320" cy="2743200"/>
          </a:xfrm>
        </p:grpSpPr>
        <p:sp>
          <p:nvSpPr>
            <p:cNvPr id="400" name="Line 73"/>
            <p:cNvSpPr/>
            <p:nvPr/>
          </p:nvSpPr>
          <p:spPr>
            <a:xfrm>
              <a:off x="7763040" y="3717720"/>
              <a:ext cx="0" cy="16765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74"/>
            <p:cNvSpPr/>
            <p:nvPr/>
          </p:nvSpPr>
          <p:spPr>
            <a:xfrm>
              <a:off x="8064360" y="265104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2" name="Group 75"/>
          <p:cNvGrpSpPr/>
          <p:nvPr/>
        </p:nvGrpSpPr>
        <p:grpSpPr>
          <a:xfrm>
            <a:off x="4689360" y="2712960"/>
            <a:ext cx="3317760" cy="990360"/>
            <a:chOff x="4689360" y="2712960"/>
            <a:chExt cx="3317760" cy="990360"/>
          </a:xfrm>
        </p:grpSpPr>
        <p:sp>
          <p:nvSpPr>
            <p:cNvPr id="403" name="Line 76"/>
            <p:cNvSpPr/>
            <p:nvPr/>
          </p:nvSpPr>
          <p:spPr>
            <a:xfrm>
              <a:off x="4689360" y="2712960"/>
              <a:ext cx="33177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77"/>
            <p:cNvSpPr/>
            <p:nvPr/>
          </p:nvSpPr>
          <p:spPr>
            <a:xfrm>
              <a:off x="4722480" y="3684240"/>
              <a:ext cx="3111120" cy="190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5" name="Group 78"/>
          <p:cNvGrpSpPr/>
          <p:nvPr/>
        </p:nvGrpSpPr>
        <p:grpSpPr>
          <a:xfrm>
            <a:off x="553680" y="2727360"/>
            <a:ext cx="389160" cy="998640"/>
            <a:chOff x="553680" y="2727360"/>
            <a:chExt cx="389160" cy="998640"/>
          </a:xfrm>
        </p:grpSpPr>
        <p:sp>
          <p:nvSpPr>
            <p:cNvPr id="406" name="Line 79"/>
            <p:cNvSpPr/>
            <p:nvPr/>
          </p:nvSpPr>
          <p:spPr>
            <a:xfrm>
              <a:off x="942840" y="272736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Rectangle 80"/>
            <p:cNvSpPr/>
            <p:nvPr/>
          </p:nvSpPr>
          <p:spPr>
            <a:xfrm>
              <a:off x="553680" y="2896920"/>
              <a:ext cx="35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8" name="Group 81"/>
          <p:cNvGrpSpPr/>
          <p:nvPr/>
        </p:nvGrpSpPr>
        <p:grpSpPr>
          <a:xfrm>
            <a:off x="3008160" y="2198880"/>
            <a:ext cx="521280" cy="909000"/>
            <a:chOff x="3008160" y="2198880"/>
            <a:chExt cx="521280" cy="909000"/>
          </a:xfrm>
        </p:grpSpPr>
        <p:grpSp>
          <p:nvGrpSpPr>
            <p:cNvPr id="409" name="Group 82"/>
            <p:cNvGrpSpPr/>
            <p:nvPr/>
          </p:nvGrpSpPr>
          <p:grpSpPr>
            <a:xfrm>
              <a:off x="3008160" y="2198880"/>
              <a:ext cx="521280" cy="591120"/>
              <a:chOff x="3008160" y="2198880"/>
              <a:chExt cx="521280" cy="591120"/>
            </a:xfrm>
          </p:grpSpPr>
          <p:sp>
            <p:nvSpPr>
              <p:cNvPr id="410" name="Rectangle 83"/>
              <p:cNvSpPr/>
              <p:nvPr/>
            </p:nvSpPr>
            <p:spPr>
              <a:xfrm>
                <a:off x="3040560" y="21988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1" name="Oval 84"/>
              <p:cNvSpPr/>
              <p:nvPr/>
            </p:nvSpPr>
            <p:spPr>
              <a:xfrm>
                <a:off x="3008160" y="265680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2" name="Line 85"/>
            <p:cNvSpPr/>
            <p:nvPr/>
          </p:nvSpPr>
          <p:spPr>
            <a:xfrm flipH="1" flipV="1">
              <a:off x="3019320" y="2849400"/>
              <a:ext cx="293760" cy="2584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3" name="Group 86"/>
          <p:cNvGrpSpPr/>
          <p:nvPr/>
        </p:nvGrpSpPr>
        <p:grpSpPr>
          <a:xfrm>
            <a:off x="3617640" y="3175560"/>
            <a:ext cx="983520" cy="580320"/>
            <a:chOff x="3617640" y="3175560"/>
            <a:chExt cx="983520" cy="580320"/>
          </a:xfrm>
        </p:grpSpPr>
        <p:grpSp>
          <p:nvGrpSpPr>
            <p:cNvPr id="414" name="Group 87"/>
            <p:cNvGrpSpPr/>
            <p:nvPr/>
          </p:nvGrpSpPr>
          <p:grpSpPr>
            <a:xfrm>
              <a:off x="4060800" y="3175560"/>
              <a:ext cx="540360" cy="580320"/>
              <a:chOff x="4060800" y="3175560"/>
              <a:chExt cx="540360" cy="580320"/>
            </a:xfrm>
          </p:grpSpPr>
          <p:sp>
            <p:nvSpPr>
              <p:cNvPr id="415" name="Rectangle 88"/>
              <p:cNvSpPr/>
              <p:nvPr/>
            </p:nvSpPr>
            <p:spPr>
              <a:xfrm>
                <a:off x="4112280" y="31755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Oval 89"/>
              <p:cNvSpPr/>
              <p:nvPr/>
            </p:nvSpPr>
            <p:spPr>
              <a:xfrm>
                <a:off x="4060800" y="362268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7" name="Line 90"/>
            <p:cNvSpPr/>
            <p:nvPr/>
          </p:nvSpPr>
          <p:spPr>
            <a:xfrm flipH="1" flipV="1">
              <a:off x="3617640" y="3412800"/>
              <a:ext cx="360360" cy="2620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8" name="Group 91"/>
          <p:cNvGrpSpPr/>
          <p:nvPr/>
        </p:nvGrpSpPr>
        <p:grpSpPr>
          <a:xfrm>
            <a:off x="4878720" y="2719440"/>
            <a:ext cx="407520" cy="998640"/>
            <a:chOff x="4878720" y="2719440"/>
            <a:chExt cx="407520" cy="998640"/>
          </a:xfrm>
        </p:grpSpPr>
        <p:sp>
          <p:nvSpPr>
            <p:cNvPr id="419" name="Line 92"/>
            <p:cNvSpPr/>
            <p:nvPr/>
          </p:nvSpPr>
          <p:spPr>
            <a:xfrm>
              <a:off x="5286240" y="271944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Rectangle 93"/>
            <p:cNvSpPr/>
            <p:nvPr/>
          </p:nvSpPr>
          <p:spPr>
            <a:xfrm>
              <a:off x="4878720" y="2879640"/>
              <a:ext cx="39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1" name="Group 94"/>
          <p:cNvGrpSpPr/>
          <p:nvPr/>
        </p:nvGrpSpPr>
        <p:grpSpPr>
          <a:xfrm>
            <a:off x="7786800" y="4652280"/>
            <a:ext cx="595080" cy="931320"/>
            <a:chOff x="7786800" y="4652280"/>
            <a:chExt cx="595080" cy="931320"/>
          </a:xfrm>
        </p:grpSpPr>
        <p:sp>
          <p:nvSpPr>
            <p:cNvPr id="422" name="Text Box 95"/>
            <p:cNvSpPr/>
            <p:nvPr/>
          </p:nvSpPr>
          <p:spPr>
            <a:xfrm>
              <a:off x="7983360" y="486468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23" name="Group 96"/>
            <p:cNvGrpSpPr/>
            <p:nvPr/>
          </p:nvGrpSpPr>
          <p:grpSpPr>
            <a:xfrm>
              <a:off x="7786800" y="4652280"/>
              <a:ext cx="237240" cy="931320"/>
              <a:chOff x="7786800" y="4652280"/>
              <a:chExt cx="237240" cy="931320"/>
            </a:xfrm>
          </p:grpSpPr>
          <p:sp>
            <p:nvSpPr>
              <p:cNvPr id="424" name="Freeform 97"/>
              <p:cNvSpPr/>
              <p:nvPr/>
            </p:nvSpPr>
            <p:spPr>
              <a:xfrm flipV="1" rot="5400000">
                <a:off x="7614360" y="5267160"/>
                <a:ext cx="488520" cy="14364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5" name="Freeform 98"/>
              <p:cNvSpPr/>
              <p:nvPr/>
            </p:nvSpPr>
            <p:spPr>
              <a:xfrm flipH="1" flipV="1" rot="16200000">
                <a:off x="7707600" y="4824360"/>
                <a:ext cx="488520" cy="143640"/>
              </a:xfrm>
              <a:custGeom>
                <a:avLst/>
                <a:gdLst>
                  <a:gd name="textAreaLeft" fmla="*/ -360 w 488520"/>
                  <a:gd name="textAreaRight" fmla="*/ 48852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426" name="Group 99"/>
          <p:cNvGrpSpPr/>
          <p:nvPr/>
        </p:nvGrpSpPr>
        <p:grpSpPr>
          <a:xfrm>
            <a:off x="3084480" y="4707000"/>
            <a:ext cx="1483560" cy="968760"/>
            <a:chOff x="3084480" y="4707000"/>
            <a:chExt cx="1483560" cy="968760"/>
          </a:xfrm>
        </p:grpSpPr>
        <p:sp>
          <p:nvSpPr>
            <p:cNvPr id="427" name="Freeform 100"/>
            <p:cNvSpPr/>
            <p:nvPr/>
          </p:nvSpPr>
          <p:spPr>
            <a:xfrm flipV="1" rot="5400000">
              <a:off x="3102480" y="4689000"/>
              <a:ext cx="457200" cy="493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101"/>
            <p:cNvSpPr/>
            <p:nvPr/>
          </p:nvSpPr>
          <p:spPr>
            <a:xfrm flipH="1" rot="5400000">
              <a:off x="3637080" y="5145840"/>
              <a:ext cx="457200" cy="4939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4129560" y="5165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0" name="Rectangle 104"/>
          <p:cNvSpPr/>
          <p:nvPr/>
        </p:nvSpPr>
        <p:spPr>
          <a:xfrm>
            <a:off x="1433520" y="6260040"/>
            <a:ext cx="1052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由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和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的峰值（或峰峰值）之比可得放大电路的电压放大倍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31" name="Group 105"/>
          <p:cNvGrpSpPr/>
          <p:nvPr/>
        </p:nvGrpSpPr>
        <p:grpSpPr>
          <a:xfrm>
            <a:off x="1047600" y="2714760"/>
            <a:ext cx="914400" cy="988560"/>
            <a:chOff x="1047600" y="2714760"/>
            <a:chExt cx="914400" cy="988560"/>
          </a:xfrm>
        </p:grpSpPr>
        <p:sp>
          <p:nvSpPr>
            <p:cNvPr id="432" name="Freeform 106"/>
            <p:cNvSpPr/>
            <p:nvPr/>
          </p:nvSpPr>
          <p:spPr>
            <a:xfrm>
              <a:off x="1047600" y="2714760"/>
              <a:ext cx="457200" cy="475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 flipH="1" flipV="1">
              <a:off x="1504800" y="3228120"/>
              <a:ext cx="457200" cy="475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75200"/>
                <a:gd name="textAreaBottom" fmla="*/ 47592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4" name="Group 108"/>
          <p:cNvGrpSpPr/>
          <p:nvPr/>
        </p:nvGrpSpPr>
        <p:grpSpPr>
          <a:xfrm>
            <a:off x="5530680" y="2708280"/>
            <a:ext cx="914400" cy="1007640"/>
            <a:chOff x="5530680" y="2708280"/>
            <a:chExt cx="914400" cy="1007640"/>
          </a:xfrm>
        </p:grpSpPr>
        <p:sp>
          <p:nvSpPr>
            <p:cNvPr id="435" name="Freeform 109"/>
            <p:cNvSpPr/>
            <p:nvPr/>
          </p:nvSpPr>
          <p:spPr>
            <a:xfrm>
              <a:off x="5530680" y="2708280"/>
              <a:ext cx="457200" cy="484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 flipH="1" flipV="1">
              <a:off x="5987880" y="3231360"/>
              <a:ext cx="457200" cy="4845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84560"/>
                <a:gd name="textAreaBottom" fmla="*/ 48528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37" name="Picture 7" descr="3"/>
          <p:cNvPicPr/>
          <p:nvPr/>
        </p:nvPicPr>
        <p:blipFill>
          <a:blip r:embed="rId1"/>
          <a:srcRect l="0" t="958" r="62696" b="27902"/>
          <a:stretch/>
        </p:blipFill>
        <p:spPr>
          <a:xfrm>
            <a:off x="8693280" y="4065480"/>
            <a:ext cx="3498840" cy="2455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0"/>
          <p:cNvSpPr/>
          <p:nvPr/>
        </p:nvSpPr>
        <p:spPr>
          <a:xfrm>
            <a:off x="4121280" y="1643760"/>
            <a:ext cx="1398600" cy="397080"/>
          </a:xfrm>
          <a:prstGeom prst="wedgeRoundRectCallout">
            <a:avLst>
              <a:gd name="adj1" fmla="val -90759"/>
              <a:gd name="adj2" fmla="val 26231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a"/>
                </a:solidFill>
                <a:latin typeface="微软雅黑"/>
                <a:ea typeface="微软雅黑"/>
              </a:rPr>
              <a:t>交流负载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4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46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在汽车防盗系统上，各种各样的报警器被广泛用。当报警器得到相应的输入信号时，通过内部电路的转换获得了不同声音信号的输出，大大提高了汽车防盗功能。防盗系统中信号处理中运用到了三极管器件，防盗报警系统出现故障，有可能是三极管故障导致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rcRect l="0" t="0" r="0" b="3671"/>
          <a:stretch/>
        </p:blipFill>
        <p:spPr>
          <a:xfrm>
            <a:off x="3152880" y="2538360"/>
            <a:ext cx="555624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953280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三极管的结构和类型是什么样的，其电流放大作用是如何产生的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该如何检测三极管的好坏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07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文本框 27"/>
            <p:cNvSpPr/>
            <p:nvPr/>
          </p:nvSpPr>
          <p:spPr>
            <a:xfrm>
              <a:off x="957240" y="2004840"/>
              <a:ext cx="1095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极管是电子电路中基本的电子器件之一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模拟电子电路中其主要作用是构成放大电路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根据不同的掺杂方式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同一个硅片上制造出三个掺杂区域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并形成两个 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结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个区引出三个电极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就构成晶体管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0" name="图片 6" descr="1650251605(1)"/>
          <p:cNvPicPr/>
          <p:nvPr/>
        </p:nvPicPr>
        <p:blipFill>
          <a:blip r:embed="rId1"/>
          <a:stretch/>
        </p:blipFill>
        <p:spPr>
          <a:xfrm>
            <a:off x="3832200" y="3591000"/>
            <a:ext cx="545616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1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5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16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文本框 27"/>
            <p:cNvSpPr/>
            <p:nvPr/>
          </p:nvSpPr>
          <p:spPr>
            <a:xfrm>
              <a:off x="957240" y="2004840"/>
              <a:ext cx="10951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按三个区的组成形式，三极管可分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，如下图所示。从符号上区分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外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里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1"/>
          <a:srcRect l="0" t="6469" r="0" b="25109"/>
          <a:stretch/>
        </p:blipFill>
        <p:spPr>
          <a:xfrm>
            <a:off x="2263680" y="3268800"/>
            <a:ext cx="839952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"/>
          <p:cNvGrpSpPr/>
          <p:nvPr/>
        </p:nvGrpSpPr>
        <p:grpSpPr>
          <a:xfrm>
            <a:off x="263520" y="1104840"/>
            <a:ext cx="6880320" cy="5753160"/>
            <a:chOff x="263520" y="1104840"/>
            <a:chExt cx="6880320" cy="5753160"/>
          </a:xfrm>
        </p:grpSpPr>
        <p:sp>
          <p:nvSpPr>
            <p:cNvPr id="121" name="圆角矩形 1"/>
            <p:cNvSpPr/>
            <p:nvPr/>
          </p:nvSpPr>
          <p:spPr>
            <a:xfrm>
              <a:off x="263520" y="1104840"/>
              <a:ext cx="6880320" cy="57531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文本框 14"/>
            <p:cNvSpPr/>
            <p:nvPr/>
          </p:nvSpPr>
          <p:spPr>
            <a:xfrm>
              <a:off x="409320" y="1201320"/>
              <a:ext cx="465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三极管的电流放大作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415440" y="1535040"/>
              <a:ext cx="66488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2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" name="矩形 15"/>
          <p:cNvSpPr/>
          <p:nvPr/>
        </p:nvSpPr>
        <p:spPr>
          <a:xfrm>
            <a:off x="558720" y="1309680"/>
            <a:ext cx="6878880" cy="53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的最主要功能是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流放大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放大工作状态时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射结必须处于正偏，集电结必须反偏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发射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正向电压，集电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反向电压），如图所示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1+β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较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比例系数，一定条件下为确定的常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反向饱和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右箭头 21"/>
          <p:cNvSpPr/>
          <p:nvPr/>
        </p:nvSpPr>
        <p:spPr>
          <a:xfrm rot="8062800">
            <a:off x="9220680" y="3366000"/>
            <a:ext cx="765000" cy="353880"/>
          </a:xfrm>
          <a:prstGeom prst="rightArrow">
            <a:avLst>
              <a:gd name="adj1" fmla="val 50000"/>
              <a:gd name="adj2" fmla="val 5018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0" name="直接箭头连接符 17"/>
          <p:cNvCxnSpPr/>
          <p:nvPr/>
        </p:nvCxnSpPr>
        <p:spPr>
          <a:xfrm flipH="1" flipV="1">
            <a:off x="8824680" y="2819520"/>
            <a:ext cx="80712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矩形 18"/>
          <p:cNvSpPr/>
          <p:nvPr/>
        </p:nvSpPr>
        <p:spPr>
          <a:xfrm>
            <a:off x="8351640" y="2392200"/>
            <a:ext cx="55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2" name="直接箭头连接符 19"/>
          <p:cNvCxnSpPr/>
          <p:nvPr/>
        </p:nvCxnSpPr>
        <p:spPr>
          <a:xfrm flipV="1">
            <a:off x="5117760" y="1382400"/>
            <a:ext cx="1150200" cy="1139040"/>
          </a:xfrm>
          <a:prstGeom prst="straightConnector1">
            <a:avLst/>
          </a:prstGeom>
          <a:ln w="648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133" name="矩形 20"/>
          <p:cNvSpPr/>
          <p:nvPr/>
        </p:nvSpPr>
        <p:spPr>
          <a:xfrm>
            <a:off x="6002280" y="874800"/>
            <a:ext cx="190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4" name="组合 21"/>
          <p:cNvGrpSpPr/>
          <p:nvPr/>
        </p:nvGrpSpPr>
        <p:grpSpPr>
          <a:xfrm>
            <a:off x="7319880" y="1322280"/>
            <a:ext cx="4443480" cy="3640320"/>
            <a:chOff x="7319880" y="1322280"/>
            <a:chExt cx="4443480" cy="3640320"/>
          </a:xfrm>
        </p:grpSpPr>
        <p:pic>
          <p:nvPicPr>
            <p:cNvPr id="135" name="图片 22" descr="timg (1).jpg"/>
            <p:cNvPicPr/>
            <p:nvPr/>
          </p:nvPicPr>
          <p:blipFill>
            <a:blip r:embed="rId1"/>
            <a:srcRect l="0" t="-3719" r="0" b="0"/>
            <a:stretch/>
          </p:blipFill>
          <p:spPr>
            <a:xfrm>
              <a:off x="7321320" y="1322280"/>
              <a:ext cx="44420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23"/>
            <p:cNvSpPr/>
            <p:nvPr/>
          </p:nvSpPr>
          <p:spPr>
            <a:xfrm>
              <a:off x="8151480" y="4594320"/>
              <a:ext cx="29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PN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型晶体管中载流子运动及各电极电流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7319880" y="3259080"/>
              <a:ext cx="834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直接连接符 25"/>
            <p:cNvSpPr/>
            <p:nvPr/>
          </p:nvSpPr>
          <p:spPr>
            <a:xfrm flipH="1">
              <a:off x="7529040" y="3030480"/>
              <a:ext cx="11160" cy="98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218360" y="5288040"/>
            <a:ext cx="48038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3711600" y="3198960"/>
            <a:ext cx="4027320" cy="3379680"/>
            <a:chOff x="3711600" y="3198960"/>
            <a:chExt cx="4027320" cy="3379680"/>
          </a:xfrm>
        </p:grpSpPr>
        <p:grpSp>
          <p:nvGrpSpPr>
            <p:cNvPr id="146" name="组合 11"/>
            <p:cNvGrpSpPr/>
            <p:nvPr/>
          </p:nvGrpSpPr>
          <p:grpSpPr>
            <a:xfrm>
              <a:off x="3711600" y="3198960"/>
              <a:ext cx="4027320" cy="3379680"/>
              <a:chOff x="3711600" y="3198960"/>
              <a:chExt cx="4027320" cy="3379680"/>
            </a:xfrm>
          </p:grpSpPr>
          <p:pic>
            <p:nvPicPr>
              <p:cNvPr id="147" name="图片 13" descr="timg (1).jpg"/>
              <p:cNvPicPr/>
              <p:nvPr/>
            </p:nvPicPr>
            <p:blipFill>
              <a:blip r:embed="rId1"/>
              <a:srcRect l="0" t="0" r="48003" b="0"/>
              <a:stretch/>
            </p:blipFill>
            <p:spPr>
              <a:xfrm>
                <a:off x="3711600" y="3198960"/>
                <a:ext cx="4027320" cy="33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圆角矩形 10"/>
              <p:cNvSpPr/>
              <p:nvPr/>
            </p:nvSpPr>
            <p:spPr>
              <a:xfrm>
                <a:off x="4749120" y="50637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49" name="圆角矩形 11"/>
              <p:cNvSpPr/>
              <p:nvPr/>
            </p:nvSpPr>
            <p:spPr>
              <a:xfrm>
                <a:off x="6769800" y="3646440"/>
                <a:ext cx="586800" cy="248184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1840"/>
                  <a:gd name="textAreaBottom" fmla="*/ 2453400 h 2481840"/>
                </a:gdLst>
                <a:ahLst/>
                <a:rect l="textAreaLeft" t="textAreaTop" r="textAreaRight" b="textAreaBottom"/>
                <a:pathLst>
                  <a:path w="21600" h="91313">
                    <a:moveTo>
                      <a:pt x="3600" y="0"/>
                    </a:moveTo>
                    <a:arcTo wR="3600" hR="3600" stAng="16200000" swAng="-5400000"/>
                    <a:lnTo>
                      <a:pt x="0" y="87713"/>
                    </a:lnTo>
                    <a:arcTo wR="3600" hR="3600" stAng="10800000" swAng="-5400000"/>
                    <a:lnTo>
                      <a:pt x="18000" y="91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0" name="矩形 12"/>
            <p:cNvSpPr/>
            <p:nvPr/>
          </p:nvSpPr>
          <p:spPr>
            <a:xfrm>
              <a:off x="6904080" y="413172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" name="矩形 24"/>
          <p:cNvSpPr/>
          <p:nvPr/>
        </p:nvSpPr>
        <p:spPr>
          <a:xfrm>
            <a:off x="2019960" y="12366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入特性曲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863720" y="1697040"/>
            <a:ext cx="92725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入特性曲线是同一族曲线；存在一段死区，只有大于死区时才有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晶体管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时候，输入特性曲线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rcRect l="0" t="0" r="49614" b="0"/>
          <a:stretch/>
        </p:blipFill>
        <p:spPr>
          <a:xfrm>
            <a:off x="7856640" y="3098880"/>
            <a:ext cx="3817800" cy="359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70080" y="3357720"/>
            <a:ext cx="249696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0" name="Picture 3" descr=""/>
          <p:cNvPicPr/>
          <p:nvPr/>
        </p:nvPicPr>
        <p:blipFill>
          <a:blip r:embed="rId1"/>
          <a:srcRect l="50196" t="0" r="0" b="0"/>
          <a:stretch/>
        </p:blipFill>
        <p:spPr>
          <a:xfrm>
            <a:off x="7821720" y="3173400"/>
            <a:ext cx="3552840" cy="3384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5"/>
          <p:cNvSpPr/>
          <p:nvPr/>
        </p:nvSpPr>
        <p:spPr>
          <a:xfrm>
            <a:off x="2255760" y="1274760"/>
            <a:ext cx="209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出特性曲线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f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|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数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838160" y="1684440"/>
            <a:ext cx="101188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（分别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2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30μA.....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出特性曲线是同一族曲线；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曲线比较平坦，即晶体管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恒流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随着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增大，曲线上移，说明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大而增大，即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流放大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3686040" y="3186000"/>
            <a:ext cx="4027680" cy="3380040"/>
            <a:chOff x="3686040" y="3186000"/>
            <a:chExt cx="4027680" cy="3380040"/>
          </a:xfrm>
        </p:grpSpPr>
        <p:grpSp>
          <p:nvGrpSpPr>
            <p:cNvPr id="164" name="组合 12"/>
            <p:cNvGrpSpPr/>
            <p:nvPr/>
          </p:nvGrpSpPr>
          <p:grpSpPr>
            <a:xfrm>
              <a:off x="3686040" y="3186000"/>
              <a:ext cx="4027680" cy="3380040"/>
              <a:chOff x="3686040" y="3186000"/>
              <a:chExt cx="4027680" cy="3380040"/>
            </a:xfrm>
          </p:grpSpPr>
          <p:pic>
            <p:nvPicPr>
              <p:cNvPr id="165" name="图片 16" descr="timg (1).jpg"/>
              <p:cNvPicPr/>
              <p:nvPr/>
            </p:nvPicPr>
            <p:blipFill>
              <a:blip r:embed="rId2"/>
              <a:srcRect l="0" t="0" r="48003" b="0"/>
              <a:stretch/>
            </p:blipFill>
            <p:spPr>
              <a:xfrm>
                <a:off x="3686040" y="3186000"/>
                <a:ext cx="4027680" cy="33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圆角矩形 20"/>
              <p:cNvSpPr/>
              <p:nvPr/>
            </p:nvSpPr>
            <p:spPr>
              <a:xfrm>
                <a:off x="4723560" y="50511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7" name="圆角矩形 21"/>
              <p:cNvSpPr/>
              <p:nvPr/>
            </p:nvSpPr>
            <p:spPr>
              <a:xfrm>
                <a:off x="6744600" y="3633480"/>
                <a:ext cx="586800" cy="248220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2200"/>
                  <a:gd name="textAreaBottom" fmla="*/ 2453760 h 2482200"/>
                </a:gdLst>
                <a:ahLst/>
                <a:rect l="textAreaLeft" t="textAreaTop" r="textAreaRight" b="textAreaBottom"/>
                <a:pathLst>
                  <a:path w="21600" h="91327">
                    <a:moveTo>
                      <a:pt x="3600" y="0"/>
                    </a:moveTo>
                    <a:arcTo wR="3600" hR="3600" stAng="16200000" swAng="-5400000"/>
                    <a:lnTo>
                      <a:pt x="0" y="87727"/>
                    </a:lnTo>
                    <a:arcTo wR="3600" hR="3600" stAng="10800000" swAng="-5400000"/>
                    <a:lnTo>
                      <a:pt x="18000" y="913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68" name="矩形 15"/>
            <p:cNvSpPr/>
            <p:nvPr/>
          </p:nvSpPr>
          <p:spPr>
            <a:xfrm>
              <a:off x="6878880" y="411876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9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44520" y="3344760"/>
            <a:ext cx="24973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3:16:21Z</dcterms:modified>
  <cp:revision>3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